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F0D8-FBD5-4EF2-AFB7-EEF135F6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08E0-8AF0-4A68-B9E0-44313513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E957-02C0-476C-893A-03F3BA48C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A641-7C60-4915-93F9-0B2924631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4069-6FBF-4E04-91DF-118F0861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6428-7C5E-4463-B1F2-F5200C43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A0CE-DB33-4DD1-9DC1-D57F105E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F04A-72E9-416D-9BB2-28CBDB74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1F60-2E4A-4840-A28F-EDF6A53D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312F-9B4F-4249-AC03-8D59DA78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FC78-8AFA-4F91-B9E9-C5516D9C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A1EC-AD4D-4C7C-A7BE-AFC35CF3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732C-5EE3-4BEA-B250-E13D1D5BA02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250920" y="1557360"/>
            <a:ext cx="85741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سرا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حريم ما أحله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فواحش الظاهرة والباط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أث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بغي بغير الح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شرك ب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ول على الله بغير عل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4633920" y="981000"/>
            <a:ext cx="419112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6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1476360" y="1628640"/>
            <a:ext cx="7326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3263760" y="836640"/>
            <a:ext cx="5664240" cy="571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"/>
          <p:cNvPicPr/>
          <p:nvPr/>
        </p:nvPicPr>
        <p:blipFill>
          <a:blip r:embed="rId4"/>
          <a:stretch/>
        </p:blipFill>
        <p:spPr>
          <a:xfrm>
            <a:off x="932040" y="3060720"/>
            <a:ext cx="8011800" cy="5842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50920" y="3646440"/>
            <a:ext cx="86914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الشرك بالله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بر الوالدين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قتل الأولاد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بعد عن الفواحش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حرم قتل النفس إلا بالحق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حرم أكل مال اليتم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مر بالعدل في الكيل والميز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8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قول العدل والصدق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9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مر بالوفاء بالعهد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10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 – اتباع الصراط المستقي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1484280"/>
            <a:ext cx="8691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ع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ن تكون بقدر الحاجة . قال تعالى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3" descr=""/>
          <p:cNvPicPr/>
          <p:nvPr/>
        </p:nvPicPr>
        <p:blipFill>
          <a:blip r:embed="rId5"/>
          <a:stretch/>
        </p:blipFill>
        <p:spPr>
          <a:xfrm>
            <a:off x="250920" y="2205000"/>
            <a:ext cx="8691480" cy="67644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179280" y="5734080"/>
            <a:ext cx="8691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يسأل أهل العلم الراسخين في العل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2" descr=""/>
          <p:cNvPicPr/>
          <p:nvPr/>
        </p:nvPicPr>
        <p:blipFill>
          <a:blip r:embed="rId6"/>
          <a:stretch/>
        </p:blipFill>
        <p:spPr>
          <a:xfrm>
            <a:off x="2556000" y="5157720"/>
            <a:ext cx="62355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50"/>
          <a:stretch/>
        </p:blipFill>
        <p:spPr>
          <a:xfrm>
            <a:off x="250920" y="692280"/>
            <a:ext cx="86421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69840"/>
            <a:ext cx="9144000" cy="1247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63600" y="1816200"/>
            <a:ext cx="84564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8" name="عنوان 1"/>
          <p:cNvSpPr/>
          <p:nvPr/>
        </p:nvSpPr>
        <p:spPr>
          <a:xfrm>
            <a:off x="260280" y="1700280"/>
            <a:ext cx="86076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تكلم الآيات عن ما أمرنا الله به وما نهانا ع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3916440" y="836640"/>
            <a:ext cx="49654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61920" y="836640"/>
            <a:ext cx="90201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2" descr=""/>
          <p:cNvPicPr/>
          <p:nvPr/>
        </p:nvPicPr>
        <p:blipFill>
          <a:blip r:embed="rId1"/>
          <a:stretch/>
        </p:blipFill>
        <p:spPr>
          <a:xfrm>
            <a:off x="179280" y="1770120"/>
            <a:ext cx="8713800" cy="50878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66840" y="465444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لا يزيدوا على قدر الحاج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07664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كل وقت سجود أو مكا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66840" y="515952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عــظم قبحه من الذنو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24000" y="569124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جهرها وسرها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"/>
          <p:cNvPicPr/>
          <p:nvPr/>
        </p:nvPicPr>
        <p:blipFill>
          <a:blip r:embed="rId3"/>
          <a:stretch/>
        </p:blipFill>
        <p:spPr>
          <a:xfrm>
            <a:off x="3203640" y="879480"/>
            <a:ext cx="5676840" cy="74916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324000" y="626760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ذنب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قوله تعالى 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رد على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شركين الذين يطوفون بالبيت عرا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2349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زينة والجمال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ص الإسلام علي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2924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هي عن الإسراف في الأكل والشرب وهو ثلاثة أنواع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"/>
          <p:cNvPicPr/>
          <p:nvPr/>
        </p:nvPicPr>
        <p:blipFill>
          <a:blip r:embed="rId2"/>
          <a:stretch/>
        </p:blipFill>
        <p:spPr>
          <a:xfrm>
            <a:off x="4427640" y="1413000"/>
            <a:ext cx="3246480" cy="503280"/>
          </a:xfrm>
          <a:prstGeom prst="rect">
            <a:avLst/>
          </a:prstGeom>
          <a:ln w="0">
            <a:noFill/>
          </a:ln>
        </p:spPr>
      </p:pic>
      <p:sp>
        <p:nvSpPr>
          <p:cNvPr id="66" name="رابط مستقيم 18"/>
          <p:cNvSpPr/>
          <p:nvPr/>
        </p:nvSpPr>
        <p:spPr>
          <a:xfrm flipH="1">
            <a:off x="4571640" y="328464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رابط مستقيم 19"/>
          <p:cNvSpPr/>
          <p:nvPr/>
        </p:nvSpPr>
        <p:spPr>
          <a:xfrm flipH="1">
            <a:off x="4566960" y="3541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رابط كسهم مستقيم 20"/>
          <p:cNvCxnSpPr/>
          <p:nvPr/>
        </p:nvCxnSpPr>
        <p:spPr>
          <a:xfrm flipH="1">
            <a:off x="8456040" y="4436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250920" y="422100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بالغة في الترفه والمأكل والمشرب والملب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رابط مستقيم 29"/>
          <p:cNvSpPr/>
          <p:nvPr/>
        </p:nvSpPr>
        <p:spPr>
          <a:xfrm flipH="1">
            <a:off x="8817120" y="3535200"/>
            <a:ext cx="2880" cy="150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رابط كسهم مستقيم 30"/>
          <p:cNvCxnSpPr/>
          <p:nvPr/>
        </p:nvCxnSpPr>
        <p:spPr>
          <a:xfrm flipH="1">
            <a:off x="8456040" y="386028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عنوان 1"/>
          <p:cNvSpPr/>
          <p:nvPr/>
        </p:nvSpPr>
        <p:spPr>
          <a:xfrm>
            <a:off x="324000" y="3666960"/>
            <a:ext cx="813564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جاوز حد الاعتدال في الأكل والشر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33"/>
          <p:cNvCxnSpPr/>
          <p:nvPr/>
        </p:nvCxnSpPr>
        <p:spPr>
          <a:xfrm flipH="1">
            <a:off x="8456040" y="5040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250920" y="480528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ناول الحر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537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أصل في حكم المأكل والمشرب والملبس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باح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50920" y="59500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فتاء بغير عل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ذب على ا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62080" y="2637000"/>
            <a:ext cx="86072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سباب : عدم الخوف من عقاب الله وحب المفاخرة والسم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علاج : الخوف من الله والتواضع وتجنب المفاخرة والسم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3"/>
          <a:stretch/>
        </p:blipFill>
        <p:spPr>
          <a:xfrm>
            <a:off x="539640" y="836640"/>
            <a:ext cx="8469360" cy="1663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4"/>
          <a:stretch/>
        </p:blipFill>
        <p:spPr>
          <a:xfrm>
            <a:off x="5400720" y="3786120"/>
            <a:ext cx="3492360" cy="158760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250920" y="4400640"/>
            <a:ext cx="756108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قتصار على ما يحتاجه م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324000" y="4905360"/>
            <a:ext cx="756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قتصار على ما يحتاجه م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